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_rels/notesSlide4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5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9FCED-D6C5-4068-BEA0-D61FAA7167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сихогено, С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D53DE-C736-4619-9AF3-89B1B8FB7762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2CBAA-C005-4A1D-A7AB-5B9358D4690F}" type="slidenum"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BDAAB-D821-4AC4-9F11-4574571CCA58}" type="slidenum"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1C793-2EE6-4A45-84B5-84731F4BDA24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FC239-1B0B-4C81-BC5A-1C0C223C8A35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5D03E-8B00-4C47-85F4-60EAF4D6B62A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E53E5-530C-492F-AAD5-9783E00FF7AD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048B5-217C-4D4D-B6F2-CFE1C364DB5C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FE5AC-92D6-488E-84F6-82E603A606EE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BE627-C52F-4476-82F2-5BB755BCEBCE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B14AC-01FA-46E1-B83A-0D1D77F87B54}" type="slidenum"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394D2-6BE3-427C-882E-E71C2F01D35E}" type="slidenum"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20D3E-55CE-426C-B9B5-87F430F5B691}" type="slidenum"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C733-F03E-433A-98D6-A1B46B01F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D74D-8722-49FD-A1E4-50DAAF7F5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16B7-CE51-45BC-9823-195FD038E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583B-041C-426E-8330-B0E7ED612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F136-6422-40E1-8BC6-BDCC854FA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A486-E1C5-47AF-BEA9-A96F05014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C855-D1EE-487A-9026-10708DAE8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C5E7-4045-4C0A-9498-20159FFF8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7101-2EFC-49D8-BE9D-BA4D6FA48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C7F9-92E8-4F74-BA64-A0DB19CD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D021-2244-4255-B062-1C0BBDBE9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D5A1-EE39-4862-8F87-33D1A1A90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B2470-6853-4D6A-94E5-C6BE2A2B0B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826920" y="333360"/>
            <a:ext cx="77774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Факултет Медицинских Наука у Крагујевц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сновне струковне студиј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едмет : Здравствена Нег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ставна јединица  БР.6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ЕСТРИНСКА  АНАМНЕЗА И ДИЈАГНОЗ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ф. Др Иван Чекерева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400" spc="-1" strike="noStrike">
                <a:solidFill>
                  <a:srgbClr val="000000"/>
                </a:solidFill>
                <a:latin typeface="Arial"/>
                <a:ea typeface="Arial"/>
              </a:rPr>
              <a:t>Физикални прегле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85480" y="1499760"/>
            <a:ext cx="86439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Ако постоји неки озбиљан проблем (дисање, повреда..) посматрање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очињемо од проблема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Ако нема неких великих здравствених проблема употребљава се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етод " глава- ноге"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: (глава, врат, грудни кош, абдомен, гениталије, екстремитети, кожа, слузокож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Физикална процена може бити и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о системим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(кардиоваскуларни; респираторни; локомоторни; чула – вид, слух, мирис, додир, укус; кожа; неуролошки и ментални статус; мишићи и кости; гастроинтестинални тракт; аногениталн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-10044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Посматрање и испитивање потреб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28760" y="13568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Посматрање (инспекциј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Болесника треба систематски  посматрати од првог контакт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- док разговарам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- при обављању медицинске интервенц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- док га негујем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 посматрању се користе сва чула, чешће чуло вида, слуха и доди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Инспекција (посматрање) болесни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23640" y="1571400"/>
            <a:ext cx="84056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нспекција (посматрање)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болесника у медицини представља важан метод који има за циљ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очавање одређених појава или знакова на болеснику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, а на основу којих се може донети одговарајући закључа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нспекција се дели н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Општу инспекциј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Локалну инспекциј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400" spc="-1" strike="noStrike">
                <a:solidFill>
                  <a:srgbClr val="000000"/>
                </a:solidFill>
                <a:latin typeface="Arial"/>
                <a:ea typeface="Arial"/>
              </a:rPr>
              <a:t>Општа инспекц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57120" y="121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Општа инспекција подразумева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посматрање тела болесне особе у целин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Општом инспекцијом (посматрањем) болесника могу се уочити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Стање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свести и оријентисанос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Став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(положај) болесник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Ход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Говор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Конституција и ухрањенос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Температур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Дисањ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Боја кож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400" spc="-1" strike="noStrike">
                <a:solidFill>
                  <a:srgbClr val="000000"/>
                </a:solidFill>
                <a:latin typeface="Arial"/>
                <a:ea typeface="Arial"/>
              </a:rPr>
              <a:t>Локална инспекц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28760" y="17146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Локална инспекција обухвата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посматрање само одређеног дела тел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(главе, врата, грудног коша, трбуха, екстремитета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400" spc="-1" strike="noStrike">
                <a:solidFill>
                  <a:srgbClr val="000000"/>
                </a:solidFill>
                <a:latin typeface="Arial"/>
                <a:ea typeface="Arial"/>
              </a:rPr>
              <a:t>Инспекција глав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28760" y="18568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Величина, облик, космато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Израз ли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Симетричност и оток ли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Боја коже ли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Очни капци, булбус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Склере, коњуктив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Облик, величина, проходност но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Уста (усне, језик, зуби, гингив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3956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400" spc="-1" strike="noStrike">
                <a:solidFill>
                  <a:srgbClr val="000000"/>
                </a:solidFill>
                <a:latin typeface="Arial"/>
                <a:ea typeface="Arial"/>
              </a:rPr>
              <a:t>Космати део лобањ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3960" y="140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Алопеција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–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ишчезавање косе на појединим деловима косматог дела лоба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5" descr="Head lice"/>
          <p:cNvPicPr/>
          <p:nvPr/>
        </p:nvPicPr>
        <p:blipFill>
          <a:blip r:embed="rId1"/>
          <a:stretch/>
        </p:blipFill>
        <p:spPr>
          <a:xfrm>
            <a:off x="4859280" y="3429000"/>
            <a:ext cx="3809880" cy="3048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hair_05"/>
          <p:cNvPicPr/>
          <p:nvPr/>
        </p:nvPicPr>
        <p:blipFill>
          <a:blip r:embed="rId2"/>
          <a:stretch/>
        </p:blipFill>
        <p:spPr>
          <a:xfrm>
            <a:off x="684360" y="2852640"/>
            <a:ext cx="3000240" cy="31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1764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1" i="1" lang="sr-CS" sz="4400" spc="-1" strike="noStrike">
                <a:solidFill>
                  <a:srgbClr val="000000"/>
                </a:solidFill>
                <a:latin typeface="Arial"/>
                <a:ea typeface="Arial"/>
              </a:rPr>
              <a:t>ЕЗИ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9988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Величина језик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(makroglosija, mikroglosij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Слузнице језик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промена боје, површине, туморска маса, покрети језика...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5" descr="cr32"/>
          <p:cNvPicPr/>
          <p:nvPr/>
        </p:nvPicPr>
        <p:blipFill>
          <a:blip r:embed="rId1"/>
          <a:stretch/>
        </p:blipFill>
        <p:spPr>
          <a:xfrm>
            <a:off x="5580000" y="4076640"/>
            <a:ext cx="2928960" cy="24433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Pict22"/>
          <p:cNvPicPr/>
          <p:nvPr/>
        </p:nvPicPr>
        <p:blipFill>
          <a:blip r:embed="rId2"/>
          <a:stretch/>
        </p:blipFill>
        <p:spPr>
          <a:xfrm>
            <a:off x="684360" y="4005360"/>
            <a:ext cx="3438360" cy="238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842920" y="-3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400" spc="-1" strike="noStrike">
                <a:solidFill>
                  <a:srgbClr val="000000"/>
                </a:solidFill>
                <a:latin typeface="Arial"/>
                <a:ea typeface="Arial"/>
              </a:rPr>
              <a:t>Израз лиц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550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аркастичн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израз лиц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– tetan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Забринут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израз лиц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ршавих особа са неоплазмом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Жалостив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зраз лиц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отиреоз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Весе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израз лиц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ертиреоз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Безизразн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лиц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– Parkinsonova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боле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ократско лице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болесници у тешком општем стању (дехидратациј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5" descr="parafac"/>
          <p:cNvPicPr/>
          <p:nvPr/>
        </p:nvPicPr>
        <p:blipFill>
          <a:blip r:embed="rId1"/>
          <a:stretch/>
        </p:blipFill>
        <p:spPr>
          <a:xfrm>
            <a:off x="5867280" y="2133720"/>
            <a:ext cx="2775240" cy="4246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pain"/>
          <p:cNvPicPr/>
          <p:nvPr/>
        </p:nvPicPr>
        <p:blipFill>
          <a:blip r:embed="rId2"/>
          <a:stretch/>
        </p:blipFill>
        <p:spPr>
          <a:xfrm>
            <a:off x="0" y="0"/>
            <a:ext cx="2463840" cy="179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400" spc="-1" strike="noStrike">
                <a:solidFill>
                  <a:srgbClr val="000000"/>
                </a:solidFill>
                <a:latin typeface="Arial"/>
                <a:ea typeface="Arial"/>
              </a:rPr>
              <a:t>Инспекција вра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Облик и симетрично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Вене вра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Штитаста жлез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Лимфне жлезд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400" spc="-1" strike="noStrike">
                <a:solidFill>
                  <a:srgbClr val="000000"/>
                </a:solidFill>
                <a:latin typeface="Arial"/>
                <a:ea typeface="Arial"/>
              </a:rPr>
              <a:t>Прикупљање подата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00040" y="18568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Са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аспекта прикупљања података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важно је имати на уму да за утврђивање потреба за негом треба обратити посебну пажњу н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физиолошке потреб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емоционалне потреб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социјалне потреб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интелектуалне потреб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400" spc="-1" strike="noStrike">
                <a:solidFill>
                  <a:srgbClr val="000000"/>
                </a:solidFill>
                <a:latin typeface="Arial"/>
                <a:ea typeface="Arial"/>
              </a:rPr>
              <a:t>Штитаста жлезда</a:t>
            </a:r>
            <a:r>
              <a:rPr b="1" i="1" lang="sr-Latn-C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8472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Увећањ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струм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дифузна, ретростернална, нодозн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5" descr="4644"/>
          <p:cNvPicPr/>
          <p:nvPr/>
        </p:nvPicPr>
        <p:blipFill>
          <a:blip r:embed="rId1"/>
          <a:stretch/>
        </p:blipFill>
        <p:spPr>
          <a:xfrm>
            <a:off x="1332000" y="3141720"/>
            <a:ext cx="2300040" cy="3284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struma1"/>
          <p:cNvPicPr/>
          <p:nvPr/>
        </p:nvPicPr>
        <p:blipFill>
          <a:blip r:embed="rId2"/>
          <a:stretch/>
        </p:blipFill>
        <p:spPr>
          <a:xfrm>
            <a:off x="4500720" y="3429000"/>
            <a:ext cx="3457440" cy="295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1" i="1" lang="sr-CS" sz="4400" spc="-1" strike="noStrike">
                <a:solidFill>
                  <a:srgbClr val="000000"/>
                </a:solidFill>
                <a:latin typeface="Arial"/>
                <a:ea typeface="Arial"/>
              </a:rPr>
              <a:t>уморске масе вра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5" descr="thryglossalcyst"/>
          <p:cNvPicPr/>
          <p:nvPr/>
        </p:nvPicPr>
        <p:blipFill>
          <a:blip r:embed="rId1"/>
          <a:stretch/>
        </p:blipFill>
        <p:spPr>
          <a:xfrm>
            <a:off x="826920" y="3068640"/>
            <a:ext cx="2648160" cy="25970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fig2_416"/>
          <p:cNvPicPr/>
          <p:nvPr/>
        </p:nvPicPr>
        <p:blipFill>
          <a:blip r:embed="rId2"/>
          <a:stretch/>
        </p:blipFill>
        <p:spPr>
          <a:xfrm>
            <a:off x="4572000" y="2997360"/>
            <a:ext cx="3133800" cy="267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400" spc="-1" strike="noStrike">
                <a:solidFill>
                  <a:srgbClr val="000000"/>
                </a:solidFill>
                <a:latin typeface="Arial"/>
                <a:ea typeface="Arial"/>
              </a:rPr>
              <a:t>Инспекција грудног кош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Тип грудног кош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Симетрично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Респираторна покретљиво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2060"/>
                </a:solidFill>
                <a:latin typeface="Arial"/>
                <a:ea typeface="Arial"/>
              </a:rPr>
              <a:t>Грудни кош - инспекц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85480" y="1785960"/>
            <a:ext cx="6156360" cy="32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Бачваст грудни кош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емфизем плућа, кифоз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есиметричност грудног коша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деформација, фиброза, атхезије плеуре, велики плеурални изли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Тахипнеја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овећање фреквенце дисајних циклуса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)-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респираторна инсуфицијенција, инфилтрација плућ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6" descr="pectus_excavatum"/>
          <p:cNvPicPr/>
          <p:nvPr/>
        </p:nvPicPr>
        <p:blipFill>
          <a:blip r:embed="rId1"/>
          <a:stretch/>
        </p:blipFill>
        <p:spPr>
          <a:xfrm>
            <a:off x="6662880" y="4873680"/>
            <a:ext cx="2481120" cy="1984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5481_01220682920"/>
          <p:cNvPicPr/>
          <p:nvPr/>
        </p:nvPicPr>
        <p:blipFill>
          <a:blip r:embed="rId2"/>
          <a:stretch/>
        </p:blipFill>
        <p:spPr>
          <a:xfrm>
            <a:off x="6810480" y="2133720"/>
            <a:ext cx="233352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00"/>
                </a:solidFill>
                <a:latin typeface="Arial"/>
                <a:ea typeface="Arial"/>
              </a:rPr>
              <a:t>Инспекција трбуха (абдомена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Трбух у равни грудног коша (изнад, испод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Симетрично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Респираторна покретљиво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Обратити пажњу на: ожиљке, колатерални крвоток, херније, хематоми .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4f81bd"/>
                </a:solidFill>
                <a:latin typeface="Arial"/>
                <a:ea typeface="Arial"/>
              </a:rPr>
              <a:t>     </a:t>
            </a:r>
            <a:r>
              <a:rPr b="1" i="1" lang="sr-CS" sz="4400" spc="-1" strike="noStrike">
                <a:solidFill>
                  <a:srgbClr val="4f81bd"/>
                </a:solidFill>
                <a:latin typeface="Arial"/>
                <a:ea typeface="Arial"/>
              </a:rPr>
              <a:t>Облик трбушног зи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7" descr="f21-07-X3243"/>
          <p:cNvPicPr/>
          <p:nvPr/>
        </p:nvPicPr>
        <p:blipFill>
          <a:blip r:embed="rId1"/>
          <a:stretch/>
        </p:blipFill>
        <p:spPr>
          <a:xfrm>
            <a:off x="396720" y="1870200"/>
            <a:ext cx="8347320" cy="3114720"/>
          </a:xfrm>
          <a:prstGeom prst="rect">
            <a:avLst/>
          </a:prstGeom>
          <a:ln w="38160">
            <a:solidFill>
              <a:srgbClr val="1f497d"/>
            </a:solidFill>
            <a:miter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270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400" spc="-1" strike="noStrike">
                <a:solidFill>
                  <a:srgbClr val="4f81bd"/>
                </a:solidFill>
                <a:latin typeface="Arial"/>
              </a:rPr>
              <a:t>Асците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7" descr="abdomen_ascites6"/>
          <p:cNvPicPr/>
          <p:nvPr/>
        </p:nvPicPr>
        <p:blipFill>
          <a:blip r:embed="rId1"/>
          <a:stretch/>
        </p:blipFill>
        <p:spPr>
          <a:xfrm>
            <a:off x="0" y="1989000"/>
            <a:ext cx="2771640" cy="2438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http://drugline.org/img/ail/2353_2369_1.jpg"/>
          <p:cNvPicPr/>
          <p:nvPr/>
        </p:nvPicPr>
        <p:blipFill>
          <a:blip r:embed="rId2"/>
          <a:stretch/>
        </p:blipFill>
        <p:spPr>
          <a:xfrm>
            <a:off x="2771640" y="1916280"/>
            <a:ext cx="3095640" cy="4498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tumblr_m86xkhaAr61qc3dr2o1_500"/>
          <p:cNvPicPr/>
          <p:nvPr/>
        </p:nvPicPr>
        <p:blipFill>
          <a:blip r:embed="rId3"/>
          <a:stretch/>
        </p:blipFill>
        <p:spPr>
          <a:xfrm>
            <a:off x="5940360" y="2133720"/>
            <a:ext cx="3203640" cy="416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4f81bd"/>
                </a:solidFill>
                <a:latin typeface="Arial"/>
                <a:ea typeface="Arial"/>
              </a:rPr>
              <a:t>Колатерални поткожни крвоток – </a:t>
            </a:r>
            <a:r>
              <a:rPr b="1" i="1" lang="sr-Latn-CS" sz="4000" spc="-1" strike="noStrike">
                <a:solidFill>
                  <a:srgbClr val="4f81bd"/>
                </a:solidFill>
                <a:latin typeface="Arial"/>
                <a:ea typeface="Arial"/>
              </a:rPr>
              <a:t>Caput meduse</a:t>
            </a:r>
            <a:r>
              <a:rPr b="1" i="1" lang="sr-Latn-C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4" descr="caput meduse"/>
          <p:cNvPicPr/>
          <p:nvPr/>
        </p:nvPicPr>
        <p:blipFill>
          <a:blip r:embed="rId1"/>
          <a:stretch/>
        </p:blipFill>
        <p:spPr>
          <a:xfrm>
            <a:off x="395280" y="2133720"/>
            <a:ext cx="3384720" cy="4292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caput-medusa 2"/>
          <p:cNvPicPr/>
          <p:nvPr/>
        </p:nvPicPr>
        <p:blipFill>
          <a:blip r:embed="rId2"/>
          <a:stretch/>
        </p:blipFill>
        <p:spPr>
          <a:xfrm>
            <a:off x="3924360" y="2276640"/>
            <a:ext cx="4608360" cy="395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>
                <a:solidFill>
                  <a:srgbClr val="002060"/>
                </a:solidFill>
                <a:latin typeface="Arial"/>
              </a:rPr>
              <a:t>Стрије </a:t>
            </a:r>
            <a:r>
              <a:rPr b="1" i="1" lang="sr-CS" sz="3200" spc="-1" strike="noStrike">
                <a:solidFill>
                  <a:srgbClr val="002060"/>
                </a:solidFill>
                <a:latin typeface="Arial"/>
                <a:ea typeface="Arial"/>
              </a:rPr>
              <a:t>(</a:t>
            </a:r>
            <a:r>
              <a:rPr b="1" i="1" lang="sr-Latn-CS" sz="3200" spc="-1" strike="noStrike">
                <a:solidFill>
                  <a:srgbClr val="002060"/>
                </a:solidFill>
                <a:latin typeface="Arial"/>
                <a:ea typeface="Arial"/>
              </a:rPr>
              <a:t>linea albicantes)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5" descr="linea%20albicans"/>
          <p:cNvPicPr/>
          <p:nvPr/>
        </p:nvPicPr>
        <p:blipFill>
          <a:blip r:embed="rId1"/>
          <a:stretch/>
        </p:blipFill>
        <p:spPr>
          <a:xfrm>
            <a:off x="971640" y="2637000"/>
            <a:ext cx="3024000" cy="2376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striaeofPregnancy_45916_med"/>
          <p:cNvPicPr/>
          <p:nvPr/>
        </p:nvPicPr>
        <p:blipFill>
          <a:blip r:embed="rId2"/>
          <a:stretch/>
        </p:blipFill>
        <p:spPr>
          <a:xfrm>
            <a:off x="5003640" y="2492280"/>
            <a:ext cx="3313440" cy="266544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4"/>
          <p:cNvSpPr/>
          <p:nvPr/>
        </p:nvSpPr>
        <p:spPr>
          <a:xfrm>
            <a:off x="5000760" y="4857840"/>
            <a:ext cx="3857400" cy="1785960"/>
          </a:xfrm>
          <a:prstGeom prst="rect">
            <a:avLst/>
          </a:prstGeom>
          <a:solidFill>
            <a:srgbClr val="4f81b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Трудноћа, гојазност, хроничан асцитес, нагло повећање ТМ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Кушинг – љубичасте стр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400" spc="-1" strike="noStrike">
                <a:solidFill>
                  <a:srgbClr val="002060"/>
                </a:solidFill>
                <a:latin typeface="Arial"/>
                <a:ea typeface="Arial"/>
              </a:rPr>
              <a:t>Инспекција абдоме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" y="2057400"/>
            <a:ext cx="82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4f81bd"/>
                </a:solidFill>
                <a:latin typeface="Arial"/>
                <a:ea typeface="Arial"/>
              </a:rPr>
              <a:t>Респираторна  покретљивост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мушкарци/ деца – абдоминални тип дисањ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жене – торакални тип дисањ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мањена респираторна покретљивост – суспектан перитонити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r>
              <a:rPr b="1" i="1" lang="sr-CS" sz="4400" spc="-1" strike="noStrike">
                <a:solidFill>
                  <a:srgbClr val="04617b"/>
                </a:solidFill>
                <a:latin typeface="Arial"/>
                <a:ea typeface="Arial"/>
              </a:rPr>
              <a:t>Прикупљање подата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24000" y="1499760"/>
            <a:ext cx="86407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едицинска сестра врши утврђивање потреба за негом на основу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естринске анамнезе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 даљег континуираног праћења болесни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тврђене потребе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реба класификовати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ем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иоритету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. Приоритет утврђујемо према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тепену угожености здравља или живо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ао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олазиште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за прикупљање података и процену потребе за негом и планирање и реализацију неге користи се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лекарска дијагноз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икупљени подаци чине основу за постављање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естринске дијагнозе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тврђивање потреба болесника за него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429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400" spc="-1" strike="noStrike">
                <a:solidFill>
                  <a:srgbClr val="000000"/>
                </a:solidFill>
                <a:latin typeface="Arial"/>
                <a:ea typeface="Arial"/>
              </a:rPr>
              <a:t>Инспекција екстремите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Отоц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Деформите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Процена прикупљених подата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28760" y="16426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00"/>
                </a:solidFill>
                <a:latin typeface="Arial"/>
                <a:ea typeface="Arial"/>
              </a:rPr>
              <a:t>Процена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  <a:ea typeface="Arial"/>
              </a:rPr>
              <a:t> је мисаони чин који прати сваки корак у прикупљању података о болеснику.Посебно је </a:t>
            </a:r>
            <a:r>
              <a:rPr b="1" lang="sr-CS" sz="3000" spc="-1" strike="noStrike">
                <a:solidFill>
                  <a:srgbClr val="000000"/>
                </a:solidFill>
                <a:latin typeface="Arial"/>
                <a:ea typeface="Arial"/>
              </a:rPr>
              <a:t>важна у фази иницијалног прикупљања података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  <a:ea typeface="Arial"/>
              </a:rPr>
              <a:t>зато што се све следеће етапе ПЗН заснивају на њој и зависе од ваљаности податак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00"/>
                </a:solidFill>
                <a:latin typeface="Arial"/>
                <a:ea typeface="Arial"/>
              </a:rPr>
              <a:t>Основ за процену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  <a:ea typeface="Arial"/>
              </a:rPr>
              <a:t>су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  <a:ea typeface="Arial"/>
              </a:rPr>
              <a:t>- подаци из </a:t>
            </a:r>
            <a:r>
              <a:rPr b="1" lang="sr-CS" sz="3000" spc="-1" strike="noStrike">
                <a:solidFill>
                  <a:srgbClr val="000000"/>
                </a:solidFill>
                <a:latin typeface="Arial"/>
                <a:ea typeface="Arial"/>
              </a:rPr>
              <a:t>сестринске анаманез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  <a:ea typeface="Arial"/>
              </a:rPr>
              <a:t>- подаци о </a:t>
            </a:r>
            <a:r>
              <a:rPr b="1" lang="sr-CS" sz="3000" spc="-1" strike="noStrike">
                <a:solidFill>
                  <a:srgbClr val="000000"/>
                </a:solidFill>
                <a:latin typeface="Arial"/>
                <a:ea typeface="Arial"/>
              </a:rPr>
              <a:t>функционалном стањ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  <a:ea typeface="Arial"/>
              </a:rPr>
              <a:t>- подаци о </a:t>
            </a:r>
            <a:r>
              <a:rPr b="1" lang="sr-CS" sz="3000" spc="-1" strike="noStrike">
                <a:solidFill>
                  <a:srgbClr val="000000"/>
                </a:solidFill>
                <a:latin typeface="Arial"/>
                <a:ea typeface="Arial"/>
              </a:rPr>
              <a:t>здравственом стањ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00"/>
                </a:solidFill>
                <a:latin typeface="Arial"/>
                <a:ea typeface="Arial"/>
              </a:rPr>
              <a:t>Документовање подата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6840" y="1934640"/>
            <a:ext cx="8472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Документовање података је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саставни део сваке појединачне етапе ПЗ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У фази утврђивања потреба за негом 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прикупљени подаци се уносе у одговарајући образац сестринске анамнез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Diagram 5"/>
          <p:cNvGrpSpPr/>
          <p:nvPr/>
        </p:nvGrpSpPr>
        <p:grpSpPr>
          <a:xfrm>
            <a:off x="2194560" y="2076120"/>
            <a:ext cx="4413240" cy="4324320"/>
            <a:chOff x="2194560" y="2076120"/>
            <a:chExt cx="4413240" cy="4324320"/>
          </a:xfrm>
        </p:grpSpPr>
        <p:sp>
          <p:nvSpPr>
            <p:cNvPr id="129" name="_s1028"/>
            <p:cNvSpPr/>
            <p:nvPr/>
          </p:nvSpPr>
          <p:spPr>
            <a:xfrm>
              <a:off x="3243240" y="2076120"/>
              <a:ext cx="2314800" cy="2417400"/>
            </a:xfrm>
            <a:custGeom>
              <a:avLst/>
              <a:gdLst>
                <a:gd name="textAreaLeft" fmla="*/ 0 w 2314800"/>
                <a:gd name="textAreaRight" fmla="*/ 2315160 w 2314800"/>
                <a:gd name="textAreaTop" fmla="*/ 0 h 2417400"/>
                <a:gd name="textAreaBottom" fmla="*/ 2417760 h 241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_s1029"/>
            <p:cNvSpPr/>
            <p:nvPr/>
          </p:nvSpPr>
          <p:spPr>
            <a:xfrm rot="4320000">
              <a:off x="3924720" y="2684520"/>
              <a:ext cx="2417760" cy="2314440"/>
            </a:xfrm>
            <a:custGeom>
              <a:avLst/>
              <a:gdLst>
                <a:gd name="textAreaLeft" fmla="*/ 0 w 2417760"/>
                <a:gd name="textAreaRight" fmla="*/ 2418120 w 2417760"/>
                <a:gd name="textAreaTop" fmla="*/ 0 h 2314440"/>
                <a:gd name="textAreaBottom" fmla="*/ 2314440 h 231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_s1030"/>
            <p:cNvSpPr/>
            <p:nvPr/>
          </p:nvSpPr>
          <p:spPr>
            <a:xfrm rot="8640000">
              <a:off x="3695040" y="3533400"/>
              <a:ext cx="2314440" cy="2417400"/>
            </a:xfrm>
            <a:custGeom>
              <a:avLst/>
              <a:gdLst>
                <a:gd name="textAreaLeft" fmla="*/ 0 w 2314440"/>
                <a:gd name="textAreaRight" fmla="*/ 2314440 w 2314440"/>
                <a:gd name="textAreaTop" fmla="*/ 0 h 2417400"/>
                <a:gd name="textAreaBottom" fmla="*/ 2417760 h 241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_s1031"/>
            <p:cNvSpPr/>
            <p:nvPr/>
          </p:nvSpPr>
          <p:spPr>
            <a:xfrm rot="12960000">
              <a:off x="2788560" y="3531240"/>
              <a:ext cx="2314440" cy="2417760"/>
            </a:xfrm>
            <a:custGeom>
              <a:avLst/>
              <a:gdLst>
                <a:gd name="textAreaLeft" fmla="*/ 0 w 2314440"/>
                <a:gd name="textAreaRight" fmla="*/ 2314440 w 2314440"/>
                <a:gd name="textAreaTop" fmla="*/ 0 h 2417760"/>
                <a:gd name="textAreaBottom" fmla="*/ 2418120 h 2417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_s1032"/>
            <p:cNvSpPr/>
            <p:nvPr/>
          </p:nvSpPr>
          <p:spPr>
            <a:xfrm rot="17280000">
              <a:off x="2459880" y="2682360"/>
              <a:ext cx="2417400" cy="2314800"/>
            </a:xfrm>
            <a:custGeom>
              <a:avLst/>
              <a:gdLst>
                <a:gd name="textAreaLeft" fmla="*/ 0 w 2417400"/>
                <a:gd name="textAreaRight" fmla="*/ 2417760 w 2417400"/>
                <a:gd name="textAreaTop" fmla="*/ 0 h 2314800"/>
                <a:gd name="textAreaBottom" fmla="*/ 2315160 h 2314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_s1033"/>
            <p:cNvSpPr/>
            <p:nvPr/>
          </p:nvSpPr>
          <p:spPr>
            <a:xfrm>
              <a:off x="2955960" y="2178720"/>
              <a:ext cx="851040" cy="88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RAČANJ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_s1034"/>
            <p:cNvSpPr/>
            <p:nvPr/>
          </p:nvSpPr>
          <p:spPr>
            <a:xfrm>
              <a:off x="5626080" y="4205160"/>
              <a:ext cx="851040" cy="88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 PLANIRANJ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_s1035"/>
            <p:cNvSpPr/>
            <p:nvPr/>
          </p:nvSpPr>
          <p:spPr>
            <a:xfrm>
              <a:off x="3975120" y="5459040"/>
              <a:ext cx="851040" cy="88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. PROVOĐENJ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_s1036"/>
            <p:cNvSpPr/>
            <p:nvPr/>
          </p:nvSpPr>
          <p:spPr>
            <a:xfrm>
              <a:off x="2324160" y="4205160"/>
              <a:ext cx="851040" cy="88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. EVALUACIJ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_s1037"/>
            <p:cNvSpPr/>
            <p:nvPr/>
          </p:nvSpPr>
          <p:spPr>
            <a:xfrm>
              <a:off x="4994280" y="2178720"/>
              <a:ext cx="851040" cy="88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 PROCJEN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9" name="TextBox 2"/>
          <p:cNvSpPr/>
          <p:nvPr/>
        </p:nvSpPr>
        <p:spPr>
          <a:xfrm>
            <a:off x="517320" y="357120"/>
            <a:ext cx="85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1f497d"/>
                </a:solidFill>
                <a:latin typeface="Arial"/>
                <a:ea typeface="Arial"/>
              </a:rPr>
              <a:t>Фазе процеса здравствене неге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5000760" y="2428920"/>
            <a:ext cx="121428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  <a:ea typeface="Arial"/>
              </a:rPr>
              <a:t>Проце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5572080" y="4500720"/>
            <a:ext cx="164304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  <a:ea typeface="Arial"/>
              </a:rPr>
              <a:t>Сестринска дијагноз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3857760" y="5786280"/>
            <a:ext cx="1500120" cy="500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  <a:ea typeface="Arial"/>
              </a:rPr>
              <a:t>Планирањ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2286000" y="4500720"/>
            <a:ext cx="14288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  <a:ea typeface="Arial"/>
              </a:rPr>
              <a:t>Приме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2643120" y="2428920"/>
            <a:ext cx="14288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  <a:ea typeface="Arial"/>
              </a:rPr>
              <a:t>Евалуациј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Box 8"/>
          <p:cNvSpPr/>
          <p:nvPr/>
        </p:nvSpPr>
        <p:spPr>
          <a:xfrm>
            <a:off x="2357280" y="2428920"/>
            <a:ext cx="4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Oval 9"/>
          <p:cNvSpPr/>
          <p:nvPr/>
        </p:nvSpPr>
        <p:spPr>
          <a:xfrm>
            <a:off x="5500800" y="4357800"/>
            <a:ext cx="1928880" cy="9144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34880" y="785520"/>
            <a:ext cx="87091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3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sr-CS" sz="3500" spc="-1" strike="noStrike">
                <a:solidFill>
                  <a:srgbClr val="1f497d"/>
                </a:solidFill>
                <a:latin typeface="Arial"/>
                <a:ea typeface="Arial"/>
              </a:rPr>
              <a:t>Сестринска анамнеза </a:t>
            </a:r>
            <a:r>
              <a:rPr b="0" lang="sr-CS" sz="2800" spc="-1" strike="noStrike">
                <a:solidFill>
                  <a:srgbClr val="1f497d"/>
                </a:solidFill>
                <a:latin typeface="Arial"/>
                <a:ea typeface="Arial"/>
              </a:rPr>
              <a:t>је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куп података о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телесним ,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сихолошким и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оцијалним аспектим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рошлог и садашњег здравственог стања 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онашања здравог или болесног пацијента у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врху утврђивања потреба за здравственом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его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Fučkar, 1992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794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00"/>
                </a:solidFill>
                <a:latin typeface="Arial"/>
                <a:ea typeface="Arial"/>
              </a:rPr>
              <a:t>Сестринска анамнез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28400" y="1356840"/>
            <a:ext cx="84294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Скуп податак о болеснику које медицинска сестра прикупља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разговором и физикалним прегледом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у циљу постављања сестринске дијагноз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и утврђивања потреба за негом. Има сестрински приступ, усмерена је на болесника  - његово стање и реаговање на болест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Приступ и редослед прикупљања података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за утврђивање потреба за негом и формирање сестринске анамнезе зависе од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тежине стања болесника и степена виталне угроженост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У критичним ситуацијама прво се задовоље тренутне виталне потребе болесник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а тек потом се приступа прикупљању и документовању податак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, ради утврђивања сестринске дијагнозе и планирања З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з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прикупљених података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сестра идентификује проблеме, класификује их према приоритету и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уноси у план ЗН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28480" y="2138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i="1" lang="sr-CS" sz="2900" spc="-1" strike="noStrike">
                <a:solidFill>
                  <a:srgbClr val="000000"/>
                </a:solidFill>
                <a:latin typeface="Arial"/>
                <a:ea typeface="Arial"/>
              </a:rPr>
              <a:t>Сестринска анамнеза  </a:t>
            </a:r>
            <a:br>
              <a:rPr sz="2900"/>
            </a:br>
            <a:r>
              <a:rPr b="1" i="1" lang="sr-CS" sz="2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(пример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0040" y="15714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Н.Н.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..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педесетогодишња учитељица из Крагујевца, живи са супругом и две ћерке. Хоспитализована је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20. 10. 2010.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године под медицинском дијагнозом улкуса желуца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Приликом прегледа пацијенткиња седи, свест очувана, орјентисана.Телесна висина 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17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 cm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телесна тежина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60 kg. 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Кожа бледа, доброг тургора, субфебрилна. Усна шупљина без наслага. Пулс добро пуњен, ритмичан, фрек.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мин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. 82.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Дисање нормалне дубине, фрек.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 14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/ми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5000760" y="1714680"/>
            <a:ext cx="4143240" cy="3571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ffc000"/>
                </a:solidFill>
                <a:latin typeface="Arial"/>
                <a:ea typeface="Arial"/>
              </a:rPr>
              <a:t>стил свакодневног живота болесника </a:t>
            </a:r>
            <a:r>
              <a:rPr b="0" lang="sr-CS" sz="1200" spc="-1" strike="noStrike">
                <a:solidFill>
                  <a:srgbClr val="ffffff"/>
                </a:solidFill>
                <a:latin typeface="Arial"/>
                <a:ea typeface="Arial"/>
              </a:rPr>
              <a:t>(како задовољава основне потребе - самостално или уз помоћ других лиц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ffffff"/>
                </a:solidFill>
                <a:latin typeface="Arial"/>
                <a:ea typeface="Arial"/>
              </a:rPr>
              <a:t>шта  </a:t>
            </a:r>
            <a:r>
              <a:rPr b="1" lang="sr-CS" sz="1200" spc="-1" strike="noStrike">
                <a:solidFill>
                  <a:srgbClr val="ffc000"/>
                </a:solidFill>
                <a:latin typeface="Arial"/>
                <a:ea typeface="Arial"/>
              </a:rPr>
              <a:t>карактерише свакодневни живот болесника</a:t>
            </a:r>
            <a:r>
              <a:rPr b="0" lang="sr-CS" sz="1200" spc="-1" strike="noStrike">
                <a:solidFill>
                  <a:srgbClr val="ffffff"/>
                </a:solidFill>
                <a:latin typeface="Arial"/>
                <a:ea typeface="Arial"/>
              </a:rPr>
              <a:t>, укључујући  породицу, поса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ffffff"/>
                </a:solidFill>
                <a:latin typeface="Arial"/>
                <a:ea typeface="Arial"/>
              </a:rPr>
              <a:t>шта </a:t>
            </a:r>
            <a:r>
              <a:rPr b="1" lang="sr-CS" sz="1200" spc="-1" strike="noStrike">
                <a:solidFill>
                  <a:srgbClr val="ffc000"/>
                </a:solidFill>
                <a:latin typeface="Arial"/>
                <a:ea typeface="Arial"/>
              </a:rPr>
              <a:t>болесник зна о својој садашњој болести </a:t>
            </a:r>
            <a:r>
              <a:rPr b="0" lang="sr-CS" sz="1200" spc="-1" strike="noStrike">
                <a:solidFill>
                  <a:srgbClr val="ffffff"/>
                </a:solidFill>
                <a:latin typeface="Arial"/>
                <a:ea typeface="Arial"/>
              </a:rPr>
              <a:t>и колико разуме свој здравствени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ffffff"/>
                </a:solidFill>
                <a:latin typeface="Arial"/>
                <a:ea typeface="Arial"/>
              </a:rPr>
              <a:t>на који </a:t>
            </a:r>
            <a:r>
              <a:rPr b="1" lang="sr-CS" sz="1200" spc="-1" strike="noStrike">
                <a:solidFill>
                  <a:srgbClr val="ffc000"/>
                </a:solidFill>
                <a:latin typeface="Arial"/>
                <a:ea typeface="Arial"/>
              </a:rPr>
              <a:t>начин болесник реагује на садашње стање </a:t>
            </a:r>
            <a:r>
              <a:rPr b="0" lang="sr-CS" sz="1200" spc="-1" strike="noStrike">
                <a:solidFill>
                  <a:srgbClr val="ffffff"/>
                </a:solidFill>
                <a:latin typeface="Arial"/>
                <a:ea typeface="Arial"/>
              </a:rPr>
              <a:t>– са физичког, психолошког, социјалног аспе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ffffff"/>
                </a:solidFill>
                <a:latin typeface="Arial"/>
                <a:ea typeface="Arial"/>
              </a:rPr>
              <a:t>који </a:t>
            </a:r>
            <a:r>
              <a:rPr b="1" lang="sr-CS" sz="1200" spc="-1" strike="noStrike">
                <a:solidFill>
                  <a:srgbClr val="ffffff"/>
                </a:solidFill>
                <a:latin typeface="Arial"/>
                <a:ea typeface="Arial"/>
              </a:rPr>
              <a:t>су</a:t>
            </a:r>
            <a:r>
              <a:rPr b="1" lang="sr-CS" sz="1200" spc="-1" strike="noStrike">
                <a:solidFill>
                  <a:srgbClr val="ffc000"/>
                </a:solidFill>
                <a:latin typeface="Arial"/>
                <a:ea typeface="Arial"/>
              </a:rPr>
              <a:t> најважнији психолошки проблеми  болесника</a:t>
            </a:r>
            <a:r>
              <a:rPr b="0" lang="sr-CS" sz="1200" spc="-1" strike="noStrike">
                <a:solidFill>
                  <a:srgbClr val="ffffff"/>
                </a:solidFill>
                <a:latin typeface="Arial"/>
                <a:ea typeface="Arial"/>
              </a:rPr>
              <a:t>, са аспекта нег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ffffff"/>
                </a:solidFill>
                <a:latin typeface="Arial"/>
                <a:ea typeface="Arial"/>
              </a:rPr>
              <a:t>како најчешће </a:t>
            </a:r>
            <a:r>
              <a:rPr b="1" lang="sr-CS" sz="1200" spc="-1" strike="noStrike">
                <a:solidFill>
                  <a:srgbClr val="ffc000"/>
                </a:solidFill>
                <a:latin typeface="Arial"/>
                <a:ea typeface="Arial"/>
              </a:rPr>
              <a:t>реагује у стресним ситуацијам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ffffff"/>
                </a:solidFill>
                <a:latin typeface="Arial"/>
                <a:ea typeface="Arial"/>
              </a:rPr>
              <a:t>каква су </a:t>
            </a:r>
            <a:r>
              <a:rPr b="1" lang="sr-CS" sz="1200" spc="-1" strike="noStrike">
                <a:solidFill>
                  <a:srgbClr val="ffc000"/>
                </a:solidFill>
                <a:latin typeface="Arial"/>
                <a:ea typeface="Arial"/>
              </a:rPr>
              <a:t>претходна искуства болесника у болести и систему З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ffffff"/>
                </a:solidFill>
                <a:latin typeface="Arial"/>
                <a:ea typeface="Arial"/>
              </a:rPr>
              <a:t>од кога и какву помоћ појединац може да очекуј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ffffff"/>
                </a:solidFill>
                <a:latin typeface="Arial"/>
                <a:ea typeface="Arial"/>
              </a:rPr>
              <a:t>да ли </a:t>
            </a:r>
            <a:r>
              <a:rPr b="1" lang="sr-CS" sz="1200" spc="-1" strike="noStrike">
                <a:solidFill>
                  <a:srgbClr val="ffc000"/>
                </a:solidFill>
                <a:latin typeface="Arial"/>
                <a:ea typeface="Arial"/>
              </a:rPr>
              <a:t>болесник има посебних жеља </a:t>
            </a:r>
            <a:r>
              <a:rPr b="0" lang="sr-CS" sz="1200" spc="-1" strike="noStrike">
                <a:solidFill>
                  <a:srgbClr val="ffffff"/>
                </a:solidFill>
                <a:latin typeface="Arial"/>
                <a:ea typeface="Arial"/>
              </a:rPr>
              <a:t>у погледу </a:t>
            </a:r>
            <a:r>
              <a:rPr b="1" lang="sr-CS" sz="1200" spc="-1" strike="noStrike">
                <a:solidFill>
                  <a:srgbClr val="ffffff"/>
                </a:solidFill>
                <a:latin typeface="Arial"/>
                <a:ea typeface="Arial"/>
              </a:rPr>
              <a:t>задовољења његових </a:t>
            </a:r>
            <a:r>
              <a:rPr b="1" lang="sr-CS" sz="1200" spc="-1" strike="noStrike">
                <a:solidFill>
                  <a:srgbClr val="ffc000"/>
                </a:solidFill>
                <a:latin typeface="Arial"/>
                <a:ea typeface="Arial"/>
              </a:rPr>
              <a:t>потреба за негом и исхран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571680" y="164268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Болесница до сада није озбиљно боловала.Никада није болнички лечена, осим два порођаја.Од 1995. године контролише се код кардиолога једном годишње због повремених аритмија. Задња кардиолошка контрола обављена је у новембру 2009. године. Прописан Андол тбл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a 100 mg 0+1+0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редовно их узима после ручк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1468800" y="428760"/>
            <a:ext cx="58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4617b"/>
                </a:solidFill>
                <a:latin typeface="Arial"/>
                <a:ea typeface="Arial"/>
              </a:rPr>
              <a:t>Сестринска анамнез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24000" y="1600200"/>
            <a:ext cx="7905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Већ месец дана осећа болове испод грудне кости типа жарења и мучнину.Проблеми се појачавају после јела.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акон прегледа лекара опште праксе упућена је на преглед код гастроентеролога, који предложио болничко лечење због даље дијагностике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Била је на симптоматској терапији (лагана дијета, тбл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Gelusil-lac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осле јела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1 + 1 + 1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1468800" y="428760"/>
            <a:ext cx="58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4617b"/>
                </a:solidFill>
                <a:latin typeface="Arial"/>
                <a:ea typeface="Arial"/>
              </a:rPr>
              <a:t>Сестринска анамнез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57120" y="164268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јутро доручкује око 0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7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ати, попије црну кафу. .. Руча око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13,30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ати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ије газирану или обичну воду, ретко пије сокове или чај. Иза ручка попије још једну црну кафу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Алкохол не конзуми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Вечера око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21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ат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Нема проблема са апетитом, осим до појаве симптома (мучнина и болови након јела), те је омршала око 4 килограма за месец дан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матра да је болничка храна лагана и укусна. У болници дневно попије до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0,5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л.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чај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окри четири пута дневно, столицу није имала већ три дана, каже " Осећам се надувено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"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не жели да иде у болнички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WC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, јер има страх од инфекције.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1468800" y="428760"/>
            <a:ext cx="58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4617b"/>
                </a:solidFill>
                <a:latin typeface="Arial"/>
                <a:ea typeface="Arial"/>
              </a:rPr>
              <a:t>Сестринска анамнез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400" spc="-1" strike="noStrike">
                <a:solidFill>
                  <a:srgbClr val="000000"/>
                </a:solidFill>
                <a:latin typeface="Arial"/>
                <a:ea typeface="Arial"/>
              </a:rPr>
              <a:t>Извори подата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28760" y="16426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Примарни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(болесник или родитељ, када је мало дете у питању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Секундарни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(члан породице или друго лице из непосредне околине, документација, чланови здравственог тим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Терцијарни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(одговарајућа литература- стручна сестринска и медицинска; стручни скупов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-360" y="1719360"/>
            <a:ext cx="85726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Буди се око 06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,30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ати ујутро. Дневни одмор користи око 12 до 13,30 сати.На спавање иде око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23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сат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пава без прекида и не користи помоћна средства.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 болници има проблема са несаницом, коју приписује страху од дијагностике.Каже да је чула да је гастроскопија неугодна. Каже: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"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Заспим око 2 сата, а будим се око 05 сати, уморн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"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2094840" y="571680"/>
            <a:ext cx="51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4617b"/>
                </a:solidFill>
                <a:latin typeface="Calibri"/>
                <a:ea typeface="Arial"/>
              </a:rPr>
              <a:t>Сестринска анамнез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57120" y="1214280"/>
            <a:ext cx="82296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Осећа бол у пределу желуца типа жарења и каже:" Боли ме" и оцењује бол са 4 на скали 0-4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Болесница зна где је њена соба, купатило,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WC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, дневни боравак, зна позвати сестру и ко је њен лечећи (ординирајући) лекар. Наводи самосталност при обављању основних људских потреб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Зна кућни ред болниц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аводи да су односи у породици одлични, али да на послу има доста стрес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Опушта је разговор са драгим људима и слушање музик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1951920" y="357120"/>
            <a:ext cx="51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4617b"/>
                </a:solidFill>
                <a:latin typeface="Calibri"/>
                <a:ea typeface="Arial"/>
              </a:rPr>
              <a:t>Сестринска анамнез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85840" y="13568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  <a:ea typeface="Arial"/>
              </a:rPr>
              <a:t>Болесница је свесна свог стања</a:t>
            </a:r>
            <a:r>
              <a:rPr b="0" lang="sl-SI" sz="25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  <a:ea typeface="Arial"/>
              </a:rPr>
              <a:t>исказује страх и забринутост због исхода болести</a:t>
            </a:r>
            <a:r>
              <a:rPr b="0" lang="sl-SI" sz="25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  <a:ea typeface="Arial"/>
              </a:rPr>
              <a:t>Не зна колико ће морати да мења животне навике.</a:t>
            </a:r>
            <a:r>
              <a:rPr b="0" lang="sl-SI" sz="2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  <a:ea typeface="Arial"/>
              </a:rPr>
              <a:t>Од лечења очекује да се што пре постави коначна дијагноза како би се почело са циљаним лечењем.Жели да се што пре врати породици и обавезама</a:t>
            </a:r>
            <a:r>
              <a:rPr b="0" lang="sl-SI" sz="25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  <a:ea typeface="Arial"/>
              </a:rPr>
              <a:t>Ослонац и подршку проналази у својој породици,  која исказује забринутост у вези стања болеснице. Породица сваки дан долази у болничке посете. </a:t>
            </a:r>
            <a:r>
              <a:rPr b="0" lang="sl-SI" sz="2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1951920" y="357120"/>
            <a:ext cx="51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4617b"/>
                </a:solidFill>
                <a:latin typeface="Calibri"/>
                <a:ea typeface="Arial"/>
              </a:rPr>
              <a:t>Сестринска анамнез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285840" y="4287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Прикупљени подаци омогућавају препознавање проблема, откривање узрока проблема и избор најповољнијих интервенција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Након прикупљања података за сестринску анамнезу, приступа се постављању дијагнозе у процесу здравствене нег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Сестринска дијагноза је актуелни или потенцијални здравствени проблем који су медицинске сестре с обзиром на њихову едукацију и искуство способне и овлашћене третирати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» (Fučkar,1992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400" spc="-1" strike="noStrike">
                <a:solidFill>
                  <a:srgbClr val="000000"/>
                </a:solidFill>
                <a:latin typeface="Arial"/>
                <a:ea typeface="Arial"/>
              </a:rPr>
              <a:t>Сестринска дијагно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Сестринска дијагноза се издвојила као посебна етапа процеса здравствене неге средином 70-тих година прошлог века, када је Америчко друштво медицинских сестара (АНА) прихватило и озаконило употребу ових термин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Diagram 5"/>
          <p:cNvGrpSpPr/>
          <p:nvPr/>
        </p:nvGrpSpPr>
        <p:grpSpPr>
          <a:xfrm>
            <a:off x="2194560" y="2076120"/>
            <a:ext cx="4413240" cy="4324320"/>
            <a:chOff x="2194560" y="2076120"/>
            <a:chExt cx="4413240" cy="4324320"/>
          </a:xfrm>
        </p:grpSpPr>
        <p:sp>
          <p:nvSpPr>
            <p:cNvPr id="170" name="_s2052"/>
            <p:cNvSpPr/>
            <p:nvPr/>
          </p:nvSpPr>
          <p:spPr>
            <a:xfrm>
              <a:off x="3243240" y="2076120"/>
              <a:ext cx="2314800" cy="2417400"/>
            </a:xfrm>
            <a:custGeom>
              <a:avLst/>
              <a:gdLst>
                <a:gd name="textAreaLeft" fmla="*/ 0 w 2314800"/>
                <a:gd name="textAreaRight" fmla="*/ 2315160 w 2314800"/>
                <a:gd name="textAreaTop" fmla="*/ 0 h 2417400"/>
                <a:gd name="textAreaBottom" fmla="*/ 2417760 h 241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_s2053"/>
            <p:cNvSpPr/>
            <p:nvPr/>
          </p:nvSpPr>
          <p:spPr>
            <a:xfrm rot="4320000">
              <a:off x="3924720" y="2684520"/>
              <a:ext cx="2417760" cy="2314440"/>
            </a:xfrm>
            <a:custGeom>
              <a:avLst/>
              <a:gdLst>
                <a:gd name="textAreaLeft" fmla="*/ 0 w 2417760"/>
                <a:gd name="textAreaRight" fmla="*/ 2418120 w 2417760"/>
                <a:gd name="textAreaTop" fmla="*/ 0 h 2314440"/>
                <a:gd name="textAreaBottom" fmla="*/ 2314440 h 231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_s2054"/>
            <p:cNvSpPr/>
            <p:nvPr/>
          </p:nvSpPr>
          <p:spPr>
            <a:xfrm rot="8640000">
              <a:off x="3695040" y="3533400"/>
              <a:ext cx="2314440" cy="2417400"/>
            </a:xfrm>
            <a:custGeom>
              <a:avLst/>
              <a:gdLst>
                <a:gd name="textAreaLeft" fmla="*/ 0 w 2314440"/>
                <a:gd name="textAreaRight" fmla="*/ 2314440 w 2314440"/>
                <a:gd name="textAreaTop" fmla="*/ 0 h 2417400"/>
                <a:gd name="textAreaBottom" fmla="*/ 2417760 h 241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_s2055"/>
            <p:cNvSpPr/>
            <p:nvPr/>
          </p:nvSpPr>
          <p:spPr>
            <a:xfrm rot="12960000">
              <a:off x="2788560" y="3531240"/>
              <a:ext cx="2314440" cy="2417760"/>
            </a:xfrm>
            <a:custGeom>
              <a:avLst/>
              <a:gdLst>
                <a:gd name="textAreaLeft" fmla="*/ 0 w 2314440"/>
                <a:gd name="textAreaRight" fmla="*/ 2314440 w 2314440"/>
                <a:gd name="textAreaTop" fmla="*/ 0 h 2417760"/>
                <a:gd name="textAreaBottom" fmla="*/ 2418120 h 2417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_s2056"/>
            <p:cNvSpPr/>
            <p:nvPr/>
          </p:nvSpPr>
          <p:spPr>
            <a:xfrm rot="17280000">
              <a:off x="2459880" y="2682360"/>
              <a:ext cx="2417400" cy="2314800"/>
            </a:xfrm>
            <a:custGeom>
              <a:avLst/>
              <a:gdLst>
                <a:gd name="textAreaLeft" fmla="*/ 0 w 2417400"/>
                <a:gd name="textAreaRight" fmla="*/ 2417760 w 2417400"/>
                <a:gd name="textAreaTop" fmla="*/ 0 h 2314800"/>
                <a:gd name="textAreaBottom" fmla="*/ 2315160 h 2314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_s2057"/>
            <p:cNvSpPr/>
            <p:nvPr/>
          </p:nvSpPr>
          <p:spPr>
            <a:xfrm>
              <a:off x="2955960" y="2178720"/>
              <a:ext cx="851040" cy="88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RAČANJ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_s2058"/>
            <p:cNvSpPr/>
            <p:nvPr/>
          </p:nvSpPr>
          <p:spPr>
            <a:xfrm>
              <a:off x="5626080" y="4205160"/>
              <a:ext cx="851040" cy="88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 PLANIRANJ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_s2059"/>
            <p:cNvSpPr/>
            <p:nvPr/>
          </p:nvSpPr>
          <p:spPr>
            <a:xfrm>
              <a:off x="3975120" y="5459040"/>
              <a:ext cx="851040" cy="88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. PROVOĐENJ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_s2060"/>
            <p:cNvSpPr/>
            <p:nvPr/>
          </p:nvSpPr>
          <p:spPr>
            <a:xfrm>
              <a:off x="2324160" y="4205160"/>
              <a:ext cx="851040" cy="88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. EVALUACIJ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_s2061"/>
            <p:cNvSpPr/>
            <p:nvPr/>
          </p:nvSpPr>
          <p:spPr>
            <a:xfrm>
              <a:off x="4994280" y="2178720"/>
              <a:ext cx="851040" cy="88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 PROCJEN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0" name="TextBox 2"/>
          <p:cNvSpPr/>
          <p:nvPr/>
        </p:nvSpPr>
        <p:spPr>
          <a:xfrm>
            <a:off x="535320" y="357120"/>
            <a:ext cx="835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1f497d"/>
                </a:solidFill>
                <a:latin typeface="Arial"/>
                <a:ea typeface="Arial"/>
              </a:rPr>
              <a:t>Фазе процеса здравствене неге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5000760" y="2428920"/>
            <a:ext cx="121428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  <a:ea typeface="Arial"/>
              </a:rPr>
              <a:t>Проце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5572080" y="4500720"/>
            <a:ext cx="164304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  <a:ea typeface="Arial"/>
              </a:rPr>
              <a:t>Сестринска дијагноз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3857760" y="5786280"/>
            <a:ext cx="1500120" cy="500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  <a:ea typeface="Arial"/>
              </a:rPr>
              <a:t>Планирањ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2286000" y="4500720"/>
            <a:ext cx="14288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  <a:ea typeface="Arial"/>
              </a:rPr>
              <a:t>Приме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2643120" y="2428920"/>
            <a:ext cx="14288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  <a:ea typeface="Arial"/>
              </a:rPr>
              <a:t>Евалуациј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Box 8"/>
          <p:cNvSpPr/>
          <p:nvPr/>
        </p:nvSpPr>
        <p:spPr>
          <a:xfrm>
            <a:off x="2357280" y="2428920"/>
            <a:ext cx="4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Oval 9"/>
          <p:cNvSpPr/>
          <p:nvPr/>
        </p:nvSpPr>
        <p:spPr>
          <a:xfrm>
            <a:off x="3643200" y="5572080"/>
            <a:ext cx="1928880" cy="9144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00"/>
                </a:solidFill>
                <a:latin typeface="Arial"/>
                <a:ea typeface="Arial"/>
              </a:rPr>
              <a:t>Планирање здравствене нег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9528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000000"/>
                </a:solidFill>
                <a:latin typeface="Arial"/>
                <a:ea typeface="Arial"/>
              </a:rPr>
              <a:t>Фаза ПЗН која се наставља </a:t>
            </a:r>
            <a:r>
              <a:rPr b="0" lang="sr-CS" sz="2700" spc="-1" strike="noStrike">
                <a:solidFill>
                  <a:srgbClr val="000000"/>
                </a:solidFill>
                <a:latin typeface="Arial"/>
                <a:ea typeface="Arial"/>
              </a:rPr>
              <a:t>после изведених закључака о проблемима корисника, односно његовим реаговањима </a:t>
            </a:r>
            <a:r>
              <a:rPr b="1" lang="sr-CS" sz="2700" spc="-1" strike="noStrike">
                <a:solidFill>
                  <a:srgbClr val="000000"/>
                </a:solidFill>
                <a:latin typeface="Arial"/>
                <a:ea typeface="Arial"/>
              </a:rPr>
              <a:t>на проблеме исказаним у сестринским дијагнозама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Arial"/>
                <a:ea typeface="Arial"/>
              </a:rPr>
              <a:t>У овој фази </a:t>
            </a:r>
            <a:r>
              <a:rPr b="1" lang="sr-CS" sz="2700" spc="-1" strike="noStrike">
                <a:solidFill>
                  <a:srgbClr val="000000"/>
                </a:solidFill>
                <a:latin typeface="Arial"/>
                <a:ea typeface="Arial"/>
              </a:rPr>
              <a:t>медицинска сестра још једном анализира утврђене потребе за негом </a:t>
            </a:r>
            <a:r>
              <a:rPr b="0" lang="sr-CS" sz="2700" spc="-1" strike="noStrike">
                <a:solidFill>
                  <a:srgbClr val="000000"/>
                </a:solidFill>
                <a:latin typeface="Arial"/>
                <a:ea typeface="Arial"/>
              </a:rPr>
              <a:t>у овиру целокупног третмана и </a:t>
            </a:r>
            <a:r>
              <a:rPr b="1" lang="sr-CS" sz="2700" spc="-1" strike="noStrike">
                <a:solidFill>
                  <a:srgbClr val="000000"/>
                </a:solidFill>
                <a:latin typeface="Arial"/>
                <a:ea typeface="Arial"/>
              </a:rPr>
              <a:t>на основу сестринских дијагноза одабере стратегију за самосталне сестринске активност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Diagram 5"/>
          <p:cNvGrpSpPr/>
          <p:nvPr/>
        </p:nvGrpSpPr>
        <p:grpSpPr>
          <a:xfrm>
            <a:off x="2194560" y="2076120"/>
            <a:ext cx="4413240" cy="4324320"/>
            <a:chOff x="2194560" y="2076120"/>
            <a:chExt cx="4413240" cy="4324320"/>
          </a:xfrm>
        </p:grpSpPr>
        <p:sp>
          <p:nvSpPr>
            <p:cNvPr id="191" name="_s3076"/>
            <p:cNvSpPr/>
            <p:nvPr/>
          </p:nvSpPr>
          <p:spPr>
            <a:xfrm>
              <a:off x="3243240" y="2076120"/>
              <a:ext cx="2314800" cy="2417400"/>
            </a:xfrm>
            <a:custGeom>
              <a:avLst/>
              <a:gdLst>
                <a:gd name="textAreaLeft" fmla="*/ 0 w 2314800"/>
                <a:gd name="textAreaRight" fmla="*/ 2315160 w 2314800"/>
                <a:gd name="textAreaTop" fmla="*/ 0 h 2417400"/>
                <a:gd name="textAreaBottom" fmla="*/ 2417760 h 241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_s3077"/>
            <p:cNvSpPr/>
            <p:nvPr/>
          </p:nvSpPr>
          <p:spPr>
            <a:xfrm rot="4320000">
              <a:off x="3924720" y="2684520"/>
              <a:ext cx="2417760" cy="2314440"/>
            </a:xfrm>
            <a:custGeom>
              <a:avLst/>
              <a:gdLst>
                <a:gd name="textAreaLeft" fmla="*/ 0 w 2417760"/>
                <a:gd name="textAreaRight" fmla="*/ 2418120 w 2417760"/>
                <a:gd name="textAreaTop" fmla="*/ 0 h 2314440"/>
                <a:gd name="textAreaBottom" fmla="*/ 2314440 h 231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_s3078"/>
            <p:cNvSpPr/>
            <p:nvPr/>
          </p:nvSpPr>
          <p:spPr>
            <a:xfrm rot="8640000">
              <a:off x="3695040" y="3533400"/>
              <a:ext cx="2314440" cy="2417400"/>
            </a:xfrm>
            <a:custGeom>
              <a:avLst/>
              <a:gdLst>
                <a:gd name="textAreaLeft" fmla="*/ 0 w 2314440"/>
                <a:gd name="textAreaRight" fmla="*/ 2314440 w 2314440"/>
                <a:gd name="textAreaTop" fmla="*/ 0 h 2417400"/>
                <a:gd name="textAreaBottom" fmla="*/ 2417760 h 241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_s3079"/>
            <p:cNvSpPr/>
            <p:nvPr/>
          </p:nvSpPr>
          <p:spPr>
            <a:xfrm rot="12960000">
              <a:off x="2788560" y="3531240"/>
              <a:ext cx="2314440" cy="2417760"/>
            </a:xfrm>
            <a:custGeom>
              <a:avLst/>
              <a:gdLst>
                <a:gd name="textAreaLeft" fmla="*/ 0 w 2314440"/>
                <a:gd name="textAreaRight" fmla="*/ 2314440 w 2314440"/>
                <a:gd name="textAreaTop" fmla="*/ 0 h 2417760"/>
                <a:gd name="textAreaBottom" fmla="*/ 2418120 h 2417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_s3080"/>
            <p:cNvSpPr/>
            <p:nvPr/>
          </p:nvSpPr>
          <p:spPr>
            <a:xfrm rot="17280000">
              <a:off x="2459880" y="2682360"/>
              <a:ext cx="2417400" cy="2314800"/>
            </a:xfrm>
            <a:custGeom>
              <a:avLst/>
              <a:gdLst>
                <a:gd name="textAreaLeft" fmla="*/ 0 w 2417400"/>
                <a:gd name="textAreaRight" fmla="*/ 2417760 w 2417400"/>
                <a:gd name="textAreaTop" fmla="*/ 0 h 2314800"/>
                <a:gd name="textAreaBottom" fmla="*/ 2315160 h 2314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_s3081"/>
            <p:cNvSpPr/>
            <p:nvPr/>
          </p:nvSpPr>
          <p:spPr>
            <a:xfrm>
              <a:off x="2955960" y="2178720"/>
              <a:ext cx="851040" cy="88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RAČANJ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_s3082"/>
            <p:cNvSpPr/>
            <p:nvPr/>
          </p:nvSpPr>
          <p:spPr>
            <a:xfrm>
              <a:off x="5626080" y="4205160"/>
              <a:ext cx="851040" cy="88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 PLANIRANJ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_s3083"/>
            <p:cNvSpPr/>
            <p:nvPr/>
          </p:nvSpPr>
          <p:spPr>
            <a:xfrm>
              <a:off x="3975120" y="5459040"/>
              <a:ext cx="851040" cy="88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. PROVOĐENJ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_s3084"/>
            <p:cNvSpPr/>
            <p:nvPr/>
          </p:nvSpPr>
          <p:spPr>
            <a:xfrm>
              <a:off x="2324160" y="4205160"/>
              <a:ext cx="851040" cy="88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. EVALUACIJ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_s3085"/>
            <p:cNvSpPr/>
            <p:nvPr/>
          </p:nvSpPr>
          <p:spPr>
            <a:xfrm>
              <a:off x="4994280" y="2178720"/>
              <a:ext cx="851040" cy="88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 PROCJEN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1" name="TextBox 2"/>
          <p:cNvSpPr/>
          <p:nvPr/>
        </p:nvSpPr>
        <p:spPr>
          <a:xfrm>
            <a:off x="535320" y="357120"/>
            <a:ext cx="835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1f497d"/>
                </a:solidFill>
                <a:latin typeface="Arial"/>
                <a:ea typeface="Arial"/>
              </a:rPr>
              <a:t>Фазе процеса здравствене неге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5000760" y="2428920"/>
            <a:ext cx="121428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  <a:ea typeface="Arial"/>
              </a:rPr>
              <a:t>Проце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5572080" y="4500720"/>
            <a:ext cx="164304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  <a:ea typeface="Arial"/>
              </a:rPr>
              <a:t>Сестринска дијагноз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3857760" y="5786280"/>
            <a:ext cx="1500120" cy="500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  <a:ea typeface="Arial"/>
              </a:rPr>
              <a:t>Планирањ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286000" y="4500720"/>
            <a:ext cx="14288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  <a:ea typeface="Arial"/>
              </a:rPr>
              <a:t>Приме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643120" y="2428920"/>
            <a:ext cx="14288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  <a:ea typeface="Arial"/>
              </a:rPr>
              <a:t>Евалуациј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Box 8"/>
          <p:cNvSpPr/>
          <p:nvPr/>
        </p:nvSpPr>
        <p:spPr>
          <a:xfrm>
            <a:off x="2357280" y="2428920"/>
            <a:ext cx="4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Oval 9"/>
          <p:cNvSpPr/>
          <p:nvPr/>
        </p:nvSpPr>
        <p:spPr>
          <a:xfrm>
            <a:off x="2071800" y="4143240"/>
            <a:ext cx="1928880" cy="9144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9640" y="-3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Примена плана здравствене нег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56760" y="1571400"/>
            <a:ext cx="86439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епосредно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ружање физичке неге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 циљу очувања, унапређивања и рестаурације здравља болесни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одучавање болесника и његове породице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 намером да се у оквиру њихове моћи оспособе за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еузимање самонег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Здравствено васпитањ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, у циљу саветовања болесника и породице да сачувају здрав начин живо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аћење и процена знакова, симптом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 других појава ради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благовременог откривања и превенирањ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отенцијалних пробле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звођење дијагностичко-терапеутских интервен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Diagram 5"/>
          <p:cNvGrpSpPr/>
          <p:nvPr/>
        </p:nvGrpSpPr>
        <p:grpSpPr>
          <a:xfrm>
            <a:off x="2194560" y="2076120"/>
            <a:ext cx="4413240" cy="4324320"/>
            <a:chOff x="2194560" y="2076120"/>
            <a:chExt cx="4413240" cy="4324320"/>
          </a:xfrm>
        </p:grpSpPr>
        <p:sp>
          <p:nvSpPr>
            <p:cNvPr id="212" name="_s4100"/>
            <p:cNvSpPr/>
            <p:nvPr/>
          </p:nvSpPr>
          <p:spPr>
            <a:xfrm>
              <a:off x="3243240" y="2076120"/>
              <a:ext cx="2314800" cy="2417400"/>
            </a:xfrm>
            <a:custGeom>
              <a:avLst/>
              <a:gdLst>
                <a:gd name="textAreaLeft" fmla="*/ 0 w 2314800"/>
                <a:gd name="textAreaRight" fmla="*/ 2315160 w 2314800"/>
                <a:gd name="textAreaTop" fmla="*/ 0 h 2417400"/>
                <a:gd name="textAreaBottom" fmla="*/ 2417760 h 241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_s4101"/>
            <p:cNvSpPr/>
            <p:nvPr/>
          </p:nvSpPr>
          <p:spPr>
            <a:xfrm rot="4320000">
              <a:off x="3924720" y="2684520"/>
              <a:ext cx="2417760" cy="2314440"/>
            </a:xfrm>
            <a:custGeom>
              <a:avLst/>
              <a:gdLst>
                <a:gd name="textAreaLeft" fmla="*/ 0 w 2417760"/>
                <a:gd name="textAreaRight" fmla="*/ 2418120 w 2417760"/>
                <a:gd name="textAreaTop" fmla="*/ 0 h 2314440"/>
                <a:gd name="textAreaBottom" fmla="*/ 2314440 h 231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_s4102"/>
            <p:cNvSpPr/>
            <p:nvPr/>
          </p:nvSpPr>
          <p:spPr>
            <a:xfrm rot="8640000">
              <a:off x="3695040" y="3533400"/>
              <a:ext cx="2314440" cy="2417400"/>
            </a:xfrm>
            <a:custGeom>
              <a:avLst/>
              <a:gdLst>
                <a:gd name="textAreaLeft" fmla="*/ 0 w 2314440"/>
                <a:gd name="textAreaRight" fmla="*/ 2314440 w 2314440"/>
                <a:gd name="textAreaTop" fmla="*/ 0 h 2417400"/>
                <a:gd name="textAreaBottom" fmla="*/ 2417760 h 241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_s4103"/>
            <p:cNvSpPr/>
            <p:nvPr/>
          </p:nvSpPr>
          <p:spPr>
            <a:xfrm rot="12960000">
              <a:off x="2788560" y="3531240"/>
              <a:ext cx="2314440" cy="2417760"/>
            </a:xfrm>
            <a:custGeom>
              <a:avLst/>
              <a:gdLst>
                <a:gd name="textAreaLeft" fmla="*/ 0 w 2314440"/>
                <a:gd name="textAreaRight" fmla="*/ 2314440 w 2314440"/>
                <a:gd name="textAreaTop" fmla="*/ 0 h 2417760"/>
                <a:gd name="textAreaBottom" fmla="*/ 2418120 h 2417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_s4104"/>
            <p:cNvSpPr/>
            <p:nvPr/>
          </p:nvSpPr>
          <p:spPr>
            <a:xfrm rot="17280000">
              <a:off x="2459880" y="2682360"/>
              <a:ext cx="2417400" cy="2314800"/>
            </a:xfrm>
            <a:custGeom>
              <a:avLst/>
              <a:gdLst>
                <a:gd name="textAreaLeft" fmla="*/ 0 w 2417400"/>
                <a:gd name="textAreaRight" fmla="*/ 2417760 w 2417400"/>
                <a:gd name="textAreaTop" fmla="*/ 0 h 2314800"/>
                <a:gd name="textAreaBottom" fmla="*/ 2315160 h 2314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_s4105"/>
            <p:cNvSpPr/>
            <p:nvPr/>
          </p:nvSpPr>
          <p:spPr>
            <a:xfrm>
              <a:off x="2955960" y="2178720"/>
              <a:ext cx="851040" cy="88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RAČANJ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_s4106"/>
            <p:cNvSpPr/>
            <p:nvPr/>
          </p:nvSpPr>
          <p:spPr>
            <a:xfrm>
              <a:off x="5626080" y="4205160"/>
              <a:ext cx="851040" cy="88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 PLANIRANJ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_s4107"/>
            <p:cNvSpPr/>
            <p:nvPr/>
          </p:nvSpPr>
          <p:spPr>
            <a:xfrm>
              <a:off x="3975120" y="5459040"/>
              <a:ext cx="851040" cy="88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. PROVOĐENJ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_s4108"/>
            <p:cNvSpPr/>
            <p:nvPr/>
          </p:nvSpPr>
          <p:spPr>
            <a:xfrm>
              <a:off x="2324160" y="4205160"/>
              <a:ext cx="851040" cy="88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. EVALUACIJ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_s4109"/>
            <p:cNvSpPr/>
            <p:nvPr/>
          </p:nvSpPr>
          <p:spPr>
            <a:xfrm>
              <a:off x="4994280" y="2178720"/>
              <a:ext cx="851040" cy="88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 PROCJEN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2" name="TextBox 2"/>
          <p:cNvSpPr/>
          <p:nvPr/>
        </p:nvSpPr>
        <p:spPr>
          <a:xfrm>
            <a:off x="517320" y="357120"/>
            <a:ext cx="85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1f497d"/>
                </a:solidFill>
                <a:latin typeface="Arial"/>
                <a:ea typeface="Arial"/>
              </a:rPr>
              <a:t>Фазе процеса здравствене неге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5000760" y="2428920"/>
            <a:ext cx="121428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  <a:ea typeface="Arial"/>
              </a:rPr>
              <a:t>Проце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5572080" y="4500720"/>
            <a:ext cx="164304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  <a:ea typeface="Arial"/>
              </a:rPr>
              <a:t>Сестринска дијагноз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3857760" y="5786280"/>
            <a:ext cx="1500120" cy="500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  <a:ea typeface="Arial"/>
              </a:rPr>
              <a:t>Планирањ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2286000" y="4500720"/>
            <a:ext cx="14288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  <a:ea typeface="Arial"/>
              </a:rPr>
              <a:t>Приме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2643120" y="2428920"/>
            <a:ext cx="14288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  <a:ea typeface="Arial"/>
              </a:rPr>
              <a:t>Евалуациј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Box 8"/>
          <p:cNvSpPr/>
          <p:nvPr/>
        </p:nvSpPr>
        <p:spPr>
          <a:xfrm>
            <a:off x="2357280" y="2428920"/>
            <a:ext cx="4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Oval 9"/>
          <p:cNvSpPr/>
          <p:nvPr/>
        </p:nvSpPr>
        <p:spPr>
          <a:xfrm>
            <a:off x="2286000" y="2214720"/>
            <a:ext cx="1928880" cy="9144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1680" y="35676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Фактори који утичу на прикупљање подата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28760" y="18568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Arial"/>
                <a:ea typeface="Arial"/>
              </a:rPr>
              <a:t>Физичко, психичко и емоционално стање болесника, али и медицинске сестре!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Arial"/>
                <a:ea typeface="Arial"/>
              </a:rPr>
              <a:t>Претходно искуство у вези са садашњим стањем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Arial"/>
                <a:ea typeface="Arial"/>
              </a:rPr>
              <a:t>Препознавање и разумевање догађаја, ситуациј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Arial"/>
                <a:ea typeface="Arial"/>
              </a:rPr>
              <a:t>Културолошко и социјално порекло и стањ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Arial"/>
                <a:ea typeface="Arial"/>
              </a:rPr>
              <a:t>Стање чул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Arial"/>
                <a:ea typeface="Arial"/>
              </a:rPr>
              <a:t>Услови у којима се пружају, примају информациј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Arial"/>
                <a:ea typeface="Arial"/>
              </a:rPr>
              <a:t>Стручне способности медицинске сестр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858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i="1" lang="sr-CS" sz="4400" spc="-1" strike="noStrike">
                <a:solidFill>
                  <a:srgbClr val="000000"/>
                </a:solidFill>
                <a:latin typeface="Arial"/>
                <a:ea typeface="Arial"/>
              </a:rPr>
              <a:t>Евалуација  у ПЗ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  <a:ea typeface="Arial"/>
              </a:rPr>
              <a:t>Да утврди </a:t>
            </a:r>
            <a:r>
              <a:rPr b="1" lang="sr-CS" sz="3000" spc="-1" strike="noStrike">
                <a:solidFill>
                  <a:srgbClr val="000000"/>
                </a:solidFill>
                <a:latin typeface="Arial"/>
                <a:ea typeface="Arial"/>
              </a:rPr>
              <a:t>колико је сестринска служба постигла у задовољавању болесникових потреба за него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  <a:ea typeface="Arial"/>
              </a:rPr>
              <a:t>Да утврди </a:t>
            </a:r>
            <a:r>
              <a:rPr b="1" lang="sr-CS" sz="3000" spc="-1" strike="noStrike">
                <a:solidFill>
                  <a:srgbClr val="000000"/>
                </a:solidFill>
                <a:latin typeface="Arial"/>
                <a:ea typeface="Arial"/>
              </a:rPr>
              <a:t>ефикасност сестринског рада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  <a:ea typeface="Arial"/>
              </a:rPr>
              <a:t>и чиниоце који су утицали на успешност нег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  <a:ea typeface="Arial"/>
              </a:rPr>
              <a:t>Да утврди </a:t>
            </a:r>
            <a:r>
              <a:rPr b="1" lang="sr-CS" sz="3000" spc="-1" strike="noStrike">
                <a:solidFill>
                  <a:srgbClr val="000000"/>
                </a:solidFill>
                <a:latin typeface="Arial"/>
                <a:ea typeface="Arial"/>
              </a:rPr>
              <a:t>колики је допринос здравствене неге у целокупном третману болесник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  <a:ea typeface="Arial"/>
              </a:rPr>
              <a:t>Да утврди </a:t>
            </a:r>
            <a:r>
              <a:rPr b="1" lang="sr-CS" sz="3000" spc="-1" strike="noStrike">
                <a:solidFill>
                  <a:srgbClr val="000000"/>
                </a:solidFill>
                <a:latin typeface="Arial"/>
                <a:ea typeface="Arial"/>
              </a:rPr>
              <a:t>колико су успешно обављене све етапе ПЗН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Box 1"/>
          <p:cNvSpPr/>
          <p:nvPr/>
        </p:nvSpPr>
        <p:spPr>
          <a:xfrm>
            <a:off x="2850120" y="2355840"/>
            <a:ext cx="2041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ХВА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00"/>
                </a:solidFill>
                <a:latin typeface="Arial"/>
                <a:ea typeface="Arial"/>
              </a:rPr>
              <a:t>Начин прикупљања подата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57120" y="1571400"/>
            <a:ext cx="87868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Интервј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Методе физикалног процењивања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(посматрање, палпација, аускултација, разне технике мерењ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Анализа документа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1522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i="1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Интервј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0" y="1285560"/>
            <a:ext cx="91440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Разговор, у здравственој нези, је процес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међусобне размене  вербалних  информација  између медицинске сестре и корисник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, односно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других лица заинтересованих за његово стањ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, као и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змеђу медицинске сестре и других чланова здравственог тима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који учествују у третману тог болесни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Разговор у фази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прикупљања иницијалних података има посебно значење за сестринску анамнезу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, служи стварању основе (базе ) података за почетну процену стања и р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говања корисника на пробле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Разговор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треба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прилагодити  здравственом стању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узрасту,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образовању, интелектуалним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 другим особеностима корисни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152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00"/>
                </a:solidFill>
                <a:latin typeface="Arial"/>
                <a:ea typeface="Arial"/>
              </a:rPr>
              <a:t>Интервј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57120" y="1571400"/>
            <a:ext cx="8444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ницијални разговор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едицинска сестр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, по правилу,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очињ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тако што се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едстави саговорнику именом, презименом и функцијом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коју има у институцији и према њему, и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објасни циљ разговор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, напомињући да ће поставити пуно питања како би добила више података и обезбедила бољу негу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а основу информација добијених при првом контакту са болесником, сачињава се сестринска дијагноза, па се препоручује вођење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аменски припремљеног разговор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2286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sr-CS" sz="4400" spc="-1" strike="noStrike">
                <a:solidFill>
                  <a:srgbClr val="000000"/>
                </a:solidFill>
                <a:latin typeface="Arial"/>
                <a:ea typeface="Arial"/>
              </a:rPr>
              <a:t>Интервј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14200" y="1142640"/>
            <a:ext cx="85154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Arial"/>
                <a:ea typeface="Arial"/>
              </a:rPr>
              <a:t>Кроз планирани разговор  </a:t>
            </a:r>
            <a:r>
              <a:rPr b="1" lang="sr-CS" sz="1900" spc="-1" strike="noStrike">
                <a:solidFill>
                  <a:srgbClr val="000000"/>
                </a:solidFill>
                <a:latin typeface="Arial"/>
                <a:ea typeface="Arial"/>
              </a:rPr>
              <a:t>утврдиће се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900" spc="-1" strike="noStrike">
                <a:solidFill>
                  <a:srgbClr val="000000"/>
                </a:solidFill>
                <a:latin typeface="Arial"/>
                <a:ea typeface="Arial"/>
              </a:rPr>
              <a:t>стил свакодневног живота болесника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  <a:ea typeface="Arial"/>
              </a:rPr>
              <a:t>(како задовољава основне потребе - самостално или уз помоћ других лица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Arial"/>
                <a:ea typeface="Arial"/>
              </a:rPr>
              <a:t>шта  карактерише свакодневни живот болесника, укључујући  породицу, посао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900" spc="-1" strike="noStrike">
                <a:solidFill>
                  <a:srgbClr val="000000"/>
                </a:solidFill>
                <a:latin typeface="Arial"/>
                <a:ea typeface="Arial"/>
              </a:rPr>
              <a:t>шта болесник зна о својој садашњој болести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  <a:ea typeface="Arial"/>
              </a:rPr>
              <a:t>и колико разуме свој здравствени проблем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Arial"/>
                <a:ea typeface="Arial"/>
              </a:rPr>
              <a:t>на који </a:t>
            </a:r>
            <a:r>
              <a:rPr b="1" lang="sr-CS" sz="1900" spc="-1" strike="noStrike">
                <a:solidFill>
                  <a:srgbClr val="000000"/>
                </a:solidFill>
                <a:latin typeface="Arial"/>
                <a:ea typeface="Arial"/>
              </a:rPr>
              <a:t>начин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1900" spc="-1" strike="noStrike">
                <a:solidFill>
                  <a:srgbClr val="000000"/>
                </a:solidFill>
                <a:latin typeface="Arial"/>
                <a:ea typeface="Arial"/>
              </a:rPr>
              <a:t>болесник реагује на садашње стање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  <a:ea typeface="Arial"/>
              </a:rPr>
              <a:t> – са физичког, психолошког, социјалног аспект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Arial"/>
                <a:ea typeface="Arial"/>
              </a:rPr>
              <a:t>који су </a:t>
            </a:r>
            <a:r>
              <a:rPr b="1" lang="sr-CS" sz="1900" spc="-1" strike="noStrike">
                <a:solidFill>
                  <a:srgbClr val="000000"/>
                </a:solidFill>
                <a:latin typeface="Arial"/>
                <a:ea typeface="Arial"/>
              </a:rPr>
              <a:t>најважнији психолошки проблеми  болесника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  <a:ea typeface="Arial"/>
              </a:rPr>
              <a:t>, са аспекта неге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Arial"/>
                <a:ea typeface="Arial"/>
              </a:rPr>
              <a:t>како најчешће </a:t>
            </a:r>
            <a:r>
              <a:rPr b="1" lang="sr-CS" sz="1900" spc="-1" strike="noStrike">
                <a:solidFill>
                  <a:srgbClr val="000000"/>
                </a:solidFill>
                <a:latin typeface="Arial"/>
                <a:ea typeface="Arial"/>
              </a:rPr>
              <a:t>реагује у стресним ситуацијама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Arial"/>
                <a:ea typeface="Arial"/>
              </a:rPr>
              <a:t>каква су </a:t>
            </a:r>
            <a:r>
              <a:rPr b="1" lang="sr-CS" sz="1900" spc="-1" strike="noStrike">
                <a:solidFill>
                  <a:srgbClr val="000000"/>
                </a:solidFill>
                <a:latin typeface="Arial"/>
                <a:ea typeface="Arial"/>
              </a:rPr>
              <a:t>претходна искуства болесника у болести и систему ЗЗ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Arial"/>
                <a:ea typeface="Arial"/>
              </a:rPr>
              <a:t>од кога и какву помоћ појединац може да очекује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Arial"/>
                <a:ea typeface="Arial"/>
              </a:rPr>
              <a:t>да ли </a:t>
            </a:r>
            <a:r>
              <a:rPr b="1" lang="sr-CS" sz="1900" spc="-1" strike="noStrike">
                <a:solidFill>
                  <a:srgbClr val="000000"/>
                </a:solidFill>
                <a:latin typeface="Arial"/>
                <a:ea typeface="Arial"/>
              </a:rPr>
              <a:t>болесник има посебних жеља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  <a:ea typeface="Arial"/>
              </a:rPr>
              <a:t>у погледу </a:t>
            </a:r>
            <a:r>
              <a:rPr b="1" lang="sr-CS" sz="1900" spc="-1" strike="noStrike">
                <a:solidFill>
                  <a:srgbClr val="000000"/>
                </a:solidFill>
                <a:latin typeface="Arial"/>
                <a:ea typeface="Arial"/>
              </a:rPr>
              <a:t>задовољења његових потреба за негом и исхраном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1-15T10:16:44Z</dcterms:created>
  <dc:creator>Marija</dc:creator>
  <dc:description/>
  <dc:language>en-US</dc:language>
  <cp:lastModifiedBy>Marija</cp:lastModifiedBy>
  <dcterms:modified xsi:type="dcterms:W3CDTF">2021-01-15T10:37:02Z</dcterms:modified>
  <cp:revision>3</cp:revision>
  <dc:subject/>
  <dc:title>Прикупљање података</dc:title>
</cp:coreProperties>
</file>